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75DA-F244-466C-979F-B9AE6DA240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280-CC8F-4C25-9678-B718AD6F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523-51AC-45BC-AF59-086DEECD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CB8-E68C-489A-8827-45A794E5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E1E-90EF-41AF-98FD-CA873B1B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64AA-6BF7-4480-8B55-5A09DEC0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F159-26E5-42AF-856E-4D449DE5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90D9-4D5D-4B0D-B81B-93DC26C1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F6C8-9C60-4CCC-AD4D-6C81C3C8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2372-07D3-48BD-BDB1-5AABDEE3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C6F7-377C-4FB3-9076-3AAE68F7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0F2D-D653-4AA7-92F6-C9209D89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B0B-54F0-4FBE-AFE9-36B33A71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BBB0-E6B7-4C92-9F9E-4616A9FB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91A9-71A2-4513-BD06-F3793651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7BC5-F83E-4CD8-9C2A-6D32625E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8736-B20A-4D2F-8E66-CFAE0727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0435-62C5-4C87-9C8D-0454BFC2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2EC-3CB5-4C48-9825-C815809F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DE1-2F26-436A-A886-5E17C73C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189-7B23-4703-A90B-CC7322CE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9BB-64AF-495F-9799-AC7061F3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F38-A55D-4F34-8F79-1884A93C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81A-D672-4412-B750-EE35616C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615-EFA3-4F4C-8015-4A57DDB9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EFCC-9112-42AA-AE85-FFAA773B39F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445F-95A7-4E8C-BE36-356C2F2CE0E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Drugs Effects on Our Bodi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787640" y="3962520"/>
            <a:ext cx="3746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ystems"/>
          <p:cNvPicPr/>
          <p:nvPr/>
        </p:nvPicPr>
        <p:blipFill>
          <a:blip r:embed="rId1"/>
          <a:stretch/>
        </p:blipFill>
        <p:spPr>
          <a:xfrm>
            <a:off x="971640" y="3141720"/>
            <a:ext cx="3095640" cy="2916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ims – To have the information on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Sol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Alcoh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obac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he effects of these on the health of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olv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pr-sbs-sealer-gallon"/>
          <p:cNvPicPr/>
          <p:nvPr/>
        </p:nvPicPr>
        <p:blipFill>
          <a:blip r:embed="rId1"/>
          <a:stretch/>
        </p:blipFill>
        <p:spPr>
          <a:xfrm>
            <a:off x="1962000" y="1844640"/>
            <a:ext cx="2335320" cy="2592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lcoh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drink"/>
          <p:cNvPicPr/>
          <p:nvPr/>
        </p:nvPicPr>
        <p:blipFill>
          <a:blip r:embed="rId1"/>
          <a:stretch/>
        </p:blipFill>
        <p:spPr>
          <a:xfrm>
            <a:off x="457200" y="2282760"/>
            <a:ext cx="4038480" cy="3164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Picture 7" descr="emphy"/>
          <p:cNvPicPr/>
          <p:nvPr/>
        </p:nvPicPr>
        <p:blipFill>
          <a:blip r:embed="rId1"/>
          <a:stretch/>
        </p:blipFill>
        <p:spPr>
          <a:xfrm>
            <a:off x="4932360" y="1989000"/>
            <a:ext cx="3343320" cy="2676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emphysema_what"/>
          <p:cNvPicPr/>
          <p:nvPr/>
        </p:nvPicPr>
        <p:blipFill>
          <a:blip r:embed="rId2"/>
          <a:stretch/>
        </p:blipFill>
        <p:spPr>
          <a:xfrm>
            <a:off x="801720" y="1052640"/>
            <a:ext cx="2698560" cy="45320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1"/>
          <p:cNvSpPr/>
          <p:nvPr/>
        </p:nvSpPr>
        <p:spPr>
          <a:xfrm>
            <a:off x="3708360" y="3213000"/>
            <a:ext cx="936720" cy="649440"/>
          </a:xfrm>
          <a:prstGeom prst="rightArrow">
            <a:avLst>
              <a:gd name="adj1" fmla="val 50000"/>
              <a:gd name="adj2" fmla="val 360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6" descr="heart_attack"/>
          <p:cNvPicPr/>
          <p:nvPr/>
        </p:nvPicPr>
        <p:blipFill>
          <a:blip r:embed="rId1"/>
          <a:stretch/>
        </p:blipFill>
        <p:spPr>
          <a:xfrm>
            <a:off x="1919160" y="1125360"/>
            <a:ext cx="4824720" cy="4983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6" descr="ortho-WH-Cigarette"/>
          <p:cNvPicPr/>
          <p:nvPr/>
        </p:nvPicPr>
        <p:blipFill>
          <a:blip r:embed="rId1"/>
          <a:stretch/>
        </p:blipFill>
        <p:spPr>
          <a:xfrm>
            <a:off x="826920" y="1197000"/>
            <a:ext cx="3656160" cy="493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Prem%20baby%20230x150"/>
          <p:cNvPicPr/>
          <p:nvPr/>
        </p:nvPicPr>
        <p:blipFill>
          <a:blip r:embed="rId2"/>
          <a:stretch/>
        </p:blipFill>
        <p:spPr>
          <a:xfrm>
            <a:off x="5796000" y="2781360"/>
            <a:ext cx="2921040" cy="19051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4716360" y="3860640"/>
            <a:ext cx="935280" cy="720720"/>
          </a:xfrm>
          <a:prstGeom prst="rightArrow">
            <a:avLst>
              <a:gd name="adj1" fmla="val 50000"/>
              <a:gd name="adj2" fmla="val 3244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Lung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bronchiti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emphys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Heart diseas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damage to blood vess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gnant smokers often have low weight babies due to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carbon monoxid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blood reducing the oxygen supply to the ba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11:34Z</dcterms:created>
  <dc:creator>John</dc:creator>
  <dc:description/>
  <dc:language>en-US</dc:language>
  <cp:lastModifiedBy>LEGION2</cp:lastModifiedBy>
  <dcterms:modified xsi:type="dcterms:W3CDTF">2016-01-14T09:07:35Z</dcterms:modified>
  <cp:revision>6</cp:revision>
  <dc:subject/>
  <dc:title>Drugs Effects on Our Bodies</dc:title>
</cp:coreProperties>
</file>